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D38-E8DB-4D0C-9B75-48CAB24B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F29-519E-4E9D-AA37-D61BAA4A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F9C-4B0E-4CA5-834B-99EA32FA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AFF-A6C0-42D4-A376-D9E3655D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290E-1ED0-44E6-8BED-B1D0A324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1786-42BC-4CB0-A8D6-F65E7A9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18AA-D27A-4CA7-ADB1-CFBB0AB1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DF49-5190-4B3F-8160-37CE1139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747D-FAB4-4FE3-8CBF-6463DF5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C67E-FF8E-4C16-B3EC-E71D536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01F-6432-40F9-902D-BE3B2F5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AE8-C1FE-4AA5-8667-53C5582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D672-11C1-42AB-B0A2-BA32176A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467C-3C35-4755-8175-6D0CE18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890-CF5D-40AD-9E94-174D8A4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FCB-F2C4-4C08-AD65-013E7E4B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9B93-A513-4CE4-8C80-AA60EAA7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4DE3D-053B-435A-AF52-594469D2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E534E-438B-49D6-9645-1C49CCD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C077D-1F2D-4A56-A306-EB66A310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0CBD2-3195-4151-8D07-2F8BF550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AC2A2-957E-478E-8578-BE361ADB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83F-D1D1-44BD-B537-FEB280EE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612F5-4B73-4452-A914-00505EE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211B9-6383-489C-94DA-C00D3BA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FA738-0AE7-490D-BD86-E995952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D4D51-A3AE-4DF1-9996-7EA15D8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C0565-EF04-4CFB-A962-006E1B1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DCEF1-A71C-444F-9C3F-515ADA90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B02E7-7E0E-4C0B-817C-07927C3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0BC6-D2AA-464B-93F1-B19558C8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9D0A-DB46-40B4-9A7C-43B5C06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B8BB-7FD4-46A6-AB2D-06EE9AC9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82F-5E17-4A67-9593-CE2DBE9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387C-7EB7-4322-8DDB-A4595CC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064DE-E67A-490D-BD8F-C33C7A6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5EF8-001A-44EE-879F-C2B9C06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A82D-6527-4B74-97BE-14B84504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4C86-996E-4617-A248-6A25F17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EF2B-64AC-4D40-AF8D-8BBD83E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93935-8764-4D5C-B978-A8E5241D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8657-AACE-4F15-A36D-8E430F2F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0F40-1374-481A-8D3B-5D86305C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CB0C-7610-4D8C-8743-CBACC18C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669-F56D-4364-9640-D134A40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E84A8-C3DD-4775-9A3D-316B2A1F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CFEE5-C12F-4F20-A5B2-19071B3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F8A8-639F-4847-B943-761CE30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D6F8-73B2-445A-9CE0-1DACD84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C71E-6B63-42AE-9195-1CC605E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4EB9-3357-4BFC-B4BB-30DC43F7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BFC8-8AC8-4514-9DEA-35BC8778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9ADB-3192-4CA5-8ADE-104BABE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01A7-B6B6-4BB0-AE01-4241521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D902-F9AC-4BC4-872E-917284F2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AD9-E720-4365-BD4B-B2B4A1D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91C9-2300-4B74-A97B-4C691C9F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DA63-0ED3-43EF-89CF-7D27FFA9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4B7C-493E-4958-9EE7-2F94CF5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DFC7-555B-4BF6-8E8E-614FFCF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C234-EEBD-4566-8685-3A63A2F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5A14-5E98-4AD9-AA8E-CB70A842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4A13-B926-4BE2-814E-B215268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54AF-026E-41B8-AFEB-688BBA5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B8CA-A425-4FF8-86BA-31AC16B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6F2D-E708-4430-8CFE-5956540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96F-C956-49F0-9AC0-0C9CDF3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29C8-E690-48FB-8CAF-78AA50CA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7033-D9A9-4301-AC82-4A8766C6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D531-A754-405B-9BE1-1D297D87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941AD-AC9A-4212-861B-54F7A066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235A-BE90-424E-8406-4A58BA9F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84CF-F569-45BC-BDB7-7AD37E6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31743-F499-4D29-94D7-ACAC8021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0F84-EA9C-416B-951C-132C417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AEB1-E251-4C4D-A185-FA93648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ED41-8BC0-4E54-95FD-AA81B84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36A-1ACA-47D5-B88C-1637D61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46C9-7CEB-42C5-ABFA-B885AB4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653D0-4C92-498E-8F8D-CB6B675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9F1B8-25EB-4887-B305-93B8598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8880-CF7F-4B5B-A400-6C9EF9E4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C060-9787-4B49-B863-EFC4C0EE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343-561E-4AE9-BDF2-E222DD8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22E7-4C2C-4DE3-A472-0941D084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FB7-4327-49AE-A5BE-F2F6747B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D39-031D-4F9D-A4D7-15EBE9EA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698F-11D4-4FE5-A470-D02D7CFA1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784-5205-4CF6-B4DB-731CCE3A0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6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6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6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CB5C-42AB-4A5B-B0D1-5EE8F12D228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3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3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5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002-3574-409B-8A39-8C170264DCA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w.ou.edu/hist/flags/stflagmtwy.shtml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6858000" y="4419720"/>
            <a:ext cx="228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350532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5335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 Kentucky State Song,4/10/201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0states.com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: Tr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: 8,414,35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ed The Union: Dec. 18 1787/1660 it was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to: Liberty and Prospe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name: Garde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er: Violet (Viola Solar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: Eastern Goldfi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: I’m Form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 Behind Name: Named after the Channel Island Jersey by Sir George Carter that came from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Jersey is located: 4.723 N and 74.764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 people from that state: Jon Bon (music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That Boarder New Jersey: Delaware, Pennsylvania, and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63244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828800" y="5529240"/>
            <a:ext cx="6324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Oklahoma, US State Flags, Thursday, March 22, 2012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30492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flag of 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New Jersey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00200" y="5791320"/>
            <a:ext cx="573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57150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5486400"/>
            <a:ext cx="624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New Jersey Map, Thursday, March 22, 2012, http://www.enchantedlearning.com/usa/statesbw/newjerse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2286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shows all the towns and capital of 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All images Copyright © 1997 - 2000 WriteLine. All Rights Reserved. Washingtion Crossing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3962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066680" y="5867280"/>
            <a:ext cx="7010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 Cards From, Washington Crossing State Park, Titusville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NJ, Thursday, March 22, 2012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is is a post card on were Washington landed with his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1:37Z</dcterms:created>
  <dc:creator>install</dc:creator>
  <dc:description/>
  <dc:language>en-US</dc:language>
  <cp:lastModifiedBy>install</cp:lastModifiedBy>
  <dcterms:modified xsi:type="dcterms:W3CDTF">2012-04-16T13:04:36Z</dcterms:modified>
  <cp:revision>11</cp:revision>
  <dc:subject/>
  <dc:title>Slide 1</dc:title>
</cp:coreProperties>
</file>